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6.png" ContentType="image/png"/>
  <Override PartName="/ppt/media/image36.png" ContentType="image/png"/>
  <Override PartName="/ppt/media/image34.wmf" ContentType="image/x-wmf"/>
  <Override PartName="/ppt/media/image49.png" ContentType="image/png"/>
  <Override PartName="/ppt/media/image37.wmf" ContentType="image/x-wmf"/>
  <Override PartName="/ppt/media/image38.png" ContentType="image/png"/>
  <Override PartName="/ppt/media/image41.wmf" ContentType="image/x-wmf"/>
  <Override PartName="/ppt/media/image9.wmf" ContentType="image/x-wmf"/>
  <Override PartName="/ppt/media/image39.wmf" ContentType="image/x-wmf"/>
  <Override PartName="/ppt/media/image42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33.wmf" ContentType="image/x-wmf"/>
  <Override PartName="/ppt/media/image8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7.wmf" ContentType="image/x-wmf"/>
  <Override PartName="/ppt/media/image12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35.wmf" ContentType="image/x-wmf"/>
  <Override PartName="/ppt/media/image28.wmf" ContentType="image/x-wmf"/>
  <Override PartName="/ppt/media/image30.png" ContentType="image/png"/>
  <Override PartName="/ppt/media/image13.wmf" ContentType="image/x-wmf"/>
  <Override PartName="/ppt/media/image4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4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1F70-0B11-4504-B0D7-F674A0762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E4ED-B70E-45A2-8D6F-6EB6855A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9BD4-9C77-4B4D-8A72-F991A3FE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6091-B789-46F0-B588-16EFBD87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E0F4-3631-4AA1-A9F3-40905998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3C1C-5214-4577-9EBB-57017EF0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1991-C885-4082-816B-8D3C2572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5B7F-F70C-46BB-BEAB-01BDC3E6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0A1B-ABD2-4DFE-8517-1A2A7412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E5D5-318B-4146-A08E-234F14FF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FA77-4347-4BD8-B4BA-D3636F45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CE3-F9F4-4B39-9EBD-E728BD37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DC4-99A0-415B-9333-B8B4C799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07FF-6477-4233-9980-444EE99DA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Non-commutative  D-Brane World 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                           &amp; 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      (Anti) de Sitter  Black Holes     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6324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mic Sans MS"/>
              </a:rPr>
              <a:t>SUPRIYA  K. KAR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Department of Physics &amp; Astrophysics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UNIVERSITY  OF  DEL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03848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8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[1] Work in progress (with Sumit Majumdar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[2] JHEP 10 (2006) 052 &amp; PRD74 (2006) 126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[3] PRD74 (2006) 066003 &amp; IJMPA21 (2006) 6087 (with Sumit Majumd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21-23 Feb’08 Workshop@ CTS, IIT, Kharagp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Axially Symmetric (Anti) de Sitter Black 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7696080" cy="1295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7696080" cy="609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3962520"/>
            <a:ext cx="4876920" cy="2895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2193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onstant scalar moduli </a:t>
            </a:r>
            <a:r>
              <a:rPr b="0" lang="en-US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EM on the bran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952880" y="4572000"/>
            <a:ext cx="3962520" cy="762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638680" y="53341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46720"/>
            <a:ext cx="403848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: to 2</a:t>
            </a:r>
            <a:r>
              <a:rPr b="0" lang="en-US" sz="1800" spc="-1" strike="noStrike" baseline="30000">
                <a:solidFill>
                  <a:srgbClr val="000066"/>
                </a:solidFill>
                <a:latin typeface="Comic Sans MS"/>
              </a:rPr>
              <a:t>nd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order in G</a:t>
            </a:r>
            <a:r>
              <a:rPr b="0" lang="en-US" sz="1000" spc="-1" strike="noStrike">
                <a:solidFill>
                  <a:srgbClr val="000066"/>
                </a:solidFill>
                <a:latin typeface="Comic Sans MS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:</a:t>
            </a:r>
            <a:r>
              <a:rPr b="0" lang="en-US" sz="1000" spc="-1" strike="noStrike">
                <a:solidFill>
                  <a:srgbClr val="000066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k</a:t>
            </a:r>
            <a:r>
              <a:rPr b="0" lang="en-US" sz="16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 (+1,0,-1)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constant curvature          geometry at the event horiz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: C</a:t>
            </a:r>
            <a:r>
              <a:rPr b="0" lang="en-US" sz="1200" spc="-1" strike="noStrike">
                <a:solidFill>
                  <a:srgbClr val="000066"/>
                </a:solidFill>
                <a:latin typeface="Comic Sans MS"/>
              </a:rPr>
              <a:t>1,2,3,4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&amp; C</a:t>
            </a:r>
            <a:r>
              <a:rPr b="0" lang="en-US" sz="1200" spc="-1" strike="noStrike">
                <a:solidFill>
                  <a:srgbClr val="000066"/>
                </a:solidFill>
                <a:latin typeface="Comic Sans MS"/>
              </a:rPr>
              <a:t>eff </a:t>
            </a:r>
            <a:r>
              <a:rPr b="0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(light) mass terms</a:t>
            </a:r>
            <a:r>
              <a:rPr b="0" lang="en-US" sz="2000" spc="-1" strike="noStrike">
                <a:solidFill>
                  <a:srgbClr val="00a8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4191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ADM M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Extremal Geometries</a:t>
            </a:r>
            <a:r>
              <a:rPr b="1" lang="en-US" sz="2800" spc="-1" strike="noStrike">
                <a:solidFill>
                  <a:srgbClr val="def6f1"/>
                </a:solidFill>
                <a:latin typeface="Comic Sans MS"/>
              </a:rPr>
              <a:t>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8305920" cy="1828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09480" y="5257800"/>
            <a:ext cx="4191120" cy="536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09480" y="4648320"/>
            <a:ext cx="4876920" cy="406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09480" y="6019920"/>
            <a:ext cx="419112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609480" y="4114800"/>
            <a:ext cx="4876920" cy="37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9480" y="12952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Axially symmetric </a:t>
            </a:r>
            <a:r>
              <a:rPr b="0" lang="en-US" sz="2000" spc="-1" strike="noStrike">
                <a:solidFill>
                  <a:srgbClr val="80008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 Spherically symmetric Black Holes </a:t>
            </a:r>
            <a:r>
              <a:rPr b="0" lang="en-US" sz="2000" spc="-1" strike="noStrike">
                <a:solidFill>
                  <a:srgbClr val="80008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                      </a:t>
            </a:r>
            <a:r>
              <a:rPr b="0" lang="en-US" sz="2000" spc="-1" strike="noStrike">
                <a:solidFill>
                  <a:srgbClr val="def6f1"/>
                </a:solidFill>
                <a:latin typeface="Comic Sans MS"/>
              </a:rPr>
              <a:t>.                                                    </a:t>
            </a: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Geometries are independent of G</a:t>
            </a:r>
            <a:r>
              <a:rPr b="0" lang="en-US" sz="1400" spc="-1" strike="noStrike">
                <a:solidFill>
                  <a:srgbClr val="80008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eneric Black Geometries ( arbitrary moduli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Non trivial potential in the moduli 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non-vanishing E</a:t>
            </a:r>
            <a:r>
              <a:rPr b="0" lang="en-US" sz="1200" spc="-1" strike="noStrike">
                <a:solidFill>
                  <a:srgbClr val="000066"/>
                </a:solidFill>
                <a:latin typeface="Comic Sans MS"/>
              </a:rPr>
              <a:t>nl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on D-brane &amp; EM-field in string bu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191120" cy="761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9480" y="2895480"/>
            <a:ext cx="4191120" cy="609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943600" y="2057400"/>
            <a:ext cx="3200400" cy="533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181480" y="2895480"/>
            <a:ext cx="396252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57200" y="5486400"/>
            <a:ext cx="7391520" cy="1371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533520" y="4343400"/>
            <a:ext cx="73152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800"/>
                </a:solidFill>
                <a:latin typeface="Comic Sans MS"/>
              </a:rPr>
              <a:t>de Sitter Charged Black Hole to O(G</a:t>
            </a:r>
            <a:r>
              <a:rPr b="1" lang="en-US" sz="1400" spc="-1" strike="noStrike">
                <a:solidFill>
                  <a:srgbClr val="00a800"/>
                </a:solidFill>
                <a:latin typeface="Comic Sans MS"/>
              </a:rPr>
              <a:t>N</a:t>
            </a:r>
            <a:r>
              <a:rPr b="1" lang="en-US" sz="2400" spc="-1" strike="noStrike">
                <a:solidFill>
                  <a:srgbClr val="00a800"/>
                </a:solidFill>
                <a:latin typeface="Comic Sans MS"/>
              </a:rPr>
              <a:t>):</a:t>
            </a:r>
            <a:r>
              <a:rPr b="1" lang="en-US" sz="2400" spc="-1" strike="noStrike">
                <a:solidFill>
                  <a:srgbClr val="def6f1"/>
                </a:solidFill>
                <a:latin typeface="Comic Sans MS"/>
              </a:rPr>
              <a:t>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153640" cy="2209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0880" y="3809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800"/>
                </a:solidFill>
                <a:latin typeface="Comic Sans MS"/>
              </a:rPr>
              <a:t>Anti de Sitter Charged Black Hole to O(G</a:t>
            </a:r>
            <a:r>
              <a:rPr b="1" lang="en-US" sz="1400" spc="-1" strike="noStrike">
                <a:solidFill>
                  <a:srgbClr val="00a800"/>
                </a:solidFill>
                <a:latin typeface="Comic Sans MS"/>
              </a:rPr>
              <a:t>N</a:t>
            </a:r>
            <a:r>
              <a:rPr b="1" lang="en-US" sz="2400" spc="-1" strike="noStrike">
                <a:solidFill>
                  <a:srgbClr val="00a8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3520" y="4572000"/>
            <a:ext cx="8229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hrinking S</a:t>
            </a: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Emerging 2D Black Holes</a:t>
            </a:r>
            <a:r>
              <a:rPr b="1" lang="en-US" sz="2800" spc="-1" strike="noStrike">
                <a:solidFill>
                  <a:srgbClr val="def6f1"/>
                </a:solidFill>
                <a:latin typeface="Comic Sans MS"/>
              </a:rPr>
              <a:t>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4876920" cy="601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6248520" cy="714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62120" y="4419720"/>
            <a:ext cx="6172200" cy="961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62120" y="5486400"/>
            <a:ext cx="6172200" cy="1371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62120" y="3657600"/>
            <a:ext cx="6172200" cy="762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09480" y="1295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Moduli ~ EM-fields </a:t>
            </a:r>
            <a:r>
              <a:rPr b="0" lang="en-US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V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 &amp;  event horizon acts as an attr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676520"/>
            <a:ext cx="8077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Charges force the horizon radius to shrink to zero in g </a:t>
            </a:r>
            <a:r>
              <a:rPr b="0" lang="en-US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0 lim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2971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S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67480" y="3733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AdS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10280" y="4267080"/>
            <a:ext cx="1981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S</a:t>
            </a: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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AdS</a:t>
            </a: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hen k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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-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66"/>
                </a:solidFill>
                <a:latin typeface="Comic Sans MS"/>
              </a:rPr>
              <a:t>Motion of D-brane </a:t>
            </a:r>
            <a:r>
              <a:rPr b="1" lang="en-US" sz="2600" spc="-1" strike="noStrike">
                <a:solidFill>
                  <a:srgbClr val="cc0066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cc0066"/>
                </a:solidFill>
                <a:latin typeface="Comic Sans MS"/>
              </a:rPr>
              <a:t> Variation of V</a:t>
            </a:r>
            <a:r>
              <a:rPr b="1" lang="en-US" sz="1400" spc="-1" strike="noStrike">
                <a:solidFill>
                  <a:srgbClr val="cc0066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cc0066"/>
                </a:solidFill>
                <a:latin typeface="Comic Sans MS"/>
              </a:rPr>
              <a:t> in moduli sp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520" y="3886200"/>
            <a:ext cx="8153280" cy="2971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57200" y="2895480"/>
            <a:ext cx="3048120" cy="7621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781680" y="3429000"/>
            <a:ext cx="1828800" cy="407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80880" y="1295280"/>
            <a:ext cx="8458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Classical </a:t>
            </a:r>
            <a:r>
              <a:rPr b="0" lang="en-US" sz="2000" spc="-1" strike="noStrike">
                <a:solidFill>
                  <a:srgbClr val="00cc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 Planckian regime ( Hagedorn Phas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Semi-classical BH’s (Hawking radiation)  </a:t>
            </a:r>
            <a:r>
              <a:rPr b="0" lang="en-US" sz="2000" spc="-1" strike="noStrike">
                <a:solidFill>
                  <a:srgbClr val="00cc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 Extremal BH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Decoupling of E</a:t>
            </a:r>
            <a:r>
              <a:rPr b="0" lang="en-US" sz="1400" spc="-1" strike="noStrike">
                <a:solidFill>
                  <a:srgbClr val="00cc99"/>
                </a:solidFill>
                <a:latin typeface="Comic Sans MS"/>
              </a:rPr>
              <a:t>nl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 (Hagendorn transition) </a:t>
            </a:r>
            <a:r>
              <a:rPr b="0" lang="en-US" sz="2000" spc="-1" strike="noStrike">
                <a:solidFill>
                  <a:srgbClr val="00cc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 Near extremal dS BH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304812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cc0066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For large r (near extrem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Topology intercha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Extra Dimensions</a:t>
            </a:r>
            <a:r>
              <a:rPr b="1" lang="en-US" sz="2400" spc="-1" strike="noStrike">
                <a:solidFill>
                  <a:srgbClr val="def6f1"/>
                </a:solidFill>
                <a:latin typeface="Comic Sans MS"/>
              </a:rPr>
              <a:t>…………………………………………………………………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5867640" cy="914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562720" y="5257800"/>
            <a:ext cx="2057400" cy="533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057400" y="5257800"/>
            <a:ext cx="2362320" cy="476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1828800" cy="532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3520" y="6094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Comic Sans MS"/>
              </a:rPr>
              <a:t>Decoupling 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gravity + gauge non-linearity</a:t>
            </a:r>
            <a:r>
              <a:rPr b="0" lang="en-US" sz="2000" spc="-1" strike="noStrike">
                <a:solidFill>
                  <a:srgbClr val="0066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66cc"/>
                </a:solidFill>
                <a:latin typeface="Comic Sans MS"/>
              </a:rPr>
              <a:t> near horizon geometry governs a typical monopole black hole solu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22860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Comic Sans MS"/>
              </a:rPr>
              <a:t>reduced m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3352680"/>
            <a:ext cx="85345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Gravitational potential generated by the reduced m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underlying gravity in 5D (ordinary geometry)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 Large Extra Dimensions” to the 2D Monopole Black H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52578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---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6019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plausible scenari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ace-time dimension ~ scale dependent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4495680"/>
            <a:ext cx="1143000" cy="685800"/>
          </a:xfrm>
          <a:prstGeom prst="flowChartInputOutpu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4267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647960" y="44956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495680" y="449568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41936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038480" y="5410080"/>
            <a:ext cx="2019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maze"/>
              </a:rPr>
              <a:t>( t , x1,  x4 , x5 , x6 , x7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maze"/>
              <a:ea typeface="Amaze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352680" y="304812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maze"/>
              </a:rPr>
              <a:t>( x2 , x3 )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maze"/>
              <a:ea typeface="Amaze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1981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19520" y="41148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schema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19920" y="4876920"/>
            <a:ext cx="2952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d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24480" y="4952880"/>
            <a:ext cx="6696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657600" y="3581280"/>
            <a:ext cx="10476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09880" y="3657600"/>
            <a:ext cx="6696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53080" y="4876920"/>
            <a:ext cx="69552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( Ordinary )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6400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T H A N K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THEME</a:t>
            </a:r>
            <a:r>
              <a:rPr b="1" lang="en-US" sz="4400" spc="-1" strike="noStrike">
                <a:solidFill>
                  <a:srgbClr val="def6f1"/>
                </a:solidFill>
                <a:latin typeface="Comic Sans MS"/>
              </a:rPr>
              <a:t> …………………………………….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73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SOME ASPECT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     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QUANTUM GRAVITY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       </a:t>
            </a: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IN STRING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mic Sans MS"/>
              </a:rPr>
              <a:t>Some thoughts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omic Sans MS"/>
              </a:rPr>
              <a:t>[1]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Dimension</a:t>
            </a:r>
            <a:r>
              <a:rPr b="0" lang="en-US" sz="28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of our space-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omic Sans MS"/>
              </a:rPr>
              <a:t>[2] 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Equivalence Principle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in quantum gra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omic Sans MS"/>
              </a:rPr>
              <a:t>[3] </a:t>
            </a: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Construction of</a:t>
            </a:r>
            <a:r>
              <a:rPr b="0" lang="en-US" sz="28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de Sitter Vacua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8600"/>
            <a:ext cx="9144000" cy="46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990033"/>
                </a:solidFill>
                <a:latin typeface="Comic Sans MS"/>
              </a:rPr>
              <a:t>L</a:t>
            </a:r>
            <a:r>
              <a:rPr b="0" lang="en-US" sz="36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0" lang="en-US" sz="3600" spc="-1" strike="noStrike">
                <a:solidFill>
                  <a:srgbClr val="000066"/>
                </a:solidFill>
                <a:latin typeface="Comic Sans MS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[1]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Non-commutative D-Brane World in String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[2] (Anti) de Sitter Black Hole Geome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[3] Black Hole Horizon As Attr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[4] Extra Dimensions,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*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Hegedorn)</a:t>
            </a:r>
            <a:r>
              <a:rPr b="1" lang="en-US" sz="24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phase transitions &amp; tunneling</a:t>
            </a:r>
            <a:r>
              <a:rPr b="1" lang="en-US" sz="2400" spc="-1" strike="noStrike">
                <a:solidFill>
                  <a:srgbClr val="99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Curved D-Brane Formalism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Comic Sans MS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686800" cy="3737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5105520"/>
            <a:ext cx="853452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0bfb"/>
                </a:solidFill>
                <a:latin typeface="Comic Sans MS"/>
              </a:rPr>
              <a:t>Boundary Dynamics of Open String</a:t>
            </a:r>
            <a:r>
              <a:rPr b="0" lang="en-US" sz="2000" spc="-1" strike="noStrike">
                <a:solidFill>
                  <a:srgbClr val="280bfb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280bfb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280bfb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280bfb"/>
                </a:solidFill>
                <a:latin typeface="Comic Sans MS"/>
              </a:rPr>
              <a:t>Notion of a D-Brane</a:t>
            </a:r>
            <a:r>
              <a:rPr b="0" lang="en-US" sz="2000" spc="-1" strike="noStrike">
                <a:solidFill>
                  <a:srgbClr val="280bfb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bfb"/>
                </a:solidFill>
                <a:latin typeface="Comic Sans MS"/>
              </a:rPr>
              <a:t>                        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U(1) Gauge theory + Gravity (</a:t>
            </a: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back reaction</a:t>
            </a: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0bfb"/>
                </a:solidFill>
                <a:latin typeface="Comic Sans MS"/>
              </a:rPr>
              <a:t>Motion of D-Brane along the Cigar Geometry</a:t>
            </a:r>
            <a:r>
              <a:rPr b="0" lang="en-US" sz="2000" spc="-1" strike="noStrike">
                <a:solidFill>
                  <a:srgbClr val="280bfb"/>
                </a:solidFill>
                <a:latin typeface="Comic Sans MS"/>
              </a:rPr>
              <a:t> (</a:t>
            </a: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string bulk</a:t>
            </a:r>
            <a:r>
              <a:rPr b="0" lang="en-US" sz="2000" spc="-1" strike="noStrike">
                <a:solidFill>
                  <a:srgbClr val="280bfb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bfb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280bfb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280bfb"/>
                </a:solidFill>
                <a:latin typeface="Comic Sans MS"/>
              </a:rPr>
              <a:t>Induces (scale dependent) </a:t>
            </a: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Curvature</a:t>
            </a:r>
            <a:r>
              <a:rPr b="0" lang="en-US" sz="1800" spc="-1" strike="noStrike">
                <a:solidFill>
                  <a:srgbClr val="280bfb"/>
                </a:solidFill>
                <a:latin typeface="Comic Sans MS"/>
              </a:rPr>
              <a:t> on its Brane Worl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Non-commutative scaling on a D5-brane world</a:t>
            </a:r>
            <a:br>
              <a:rPr sz="2800"/>
            </a:b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(schema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3809880"/>
            <a:ext cx="1143000" cy="762120"/>
          </a:xfrm>
          <a:prstGeom prst="flowChartDecision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1600200"/>
            <a:ext cx="2057400" cy="205740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6477120" y="36576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600200"/>
            <a:ext cx="1981080" cy="2057400"/>
          </a:xfrm>
          <a:prstGeom prst="flowChartProcess">
            <a:avLst/>
          </a:prstGeom>
          <a:solidFill>
            <a:srgbClr val="dde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066680" y="2438280"/>
            <a:ext cx="11239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0" lang="en-US" sz="1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D5-brane</a:t>
            </a:r>
            <a:endParaRPr b="0" lang="en-US" sz="1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181480" y="2362320"/>
            <a:ext cx="8193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4D World</a:t>
            </a:r>
            <a:endParaRPr b="0" lang="en-US" sz="1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24382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20574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800"/>
                </a:solidFill>
                <a:latin typeface="Comic Sans MS"/>
              </a:rPr>
              <a:t>NC-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0" y="3962520"/>
            <a:ext cx="6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800"/>
                </a:solidFill>
                <a:latin typeface="Comic Sans MS"/>
              </a:rPr>
              <a:t>Q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4800600"/>
            <a:ext cx="7848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[ X , Z ] = i (theta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transverse 4D space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,  </a:t>
            </a: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Z</a:t>
            </a: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Longitudinal 2D space coord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eiberg-Witten Map</a:t>
            </a:r>
            <a:r>
              <a:rPr b="1" lang="en-US" sz="3200" spc="-1" strike="noStrike">
                <a:solidFill>
                  <a:srgbClr val="def6f1"/>
                </a:solidFill>
                <a:latin typeface="Comic Sans MS"/>
              </a:rPr>
              <a:t>     ………………………….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4" marL="1954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0bfb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280bfb"/>
                </a:solidFill>
                <a:latin typeface="Comic Sans MS"/>
              </a:rPr>
              <a:t>U(1)   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800080"/>
                </a:solidFill>
                <a:latin typeface="Comic Sans MS"/>
              </a:rPr>
              <a:t> U(1)</a:t>
            </a: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bfb"/>
                </a:solidFill>
                <a:latin typeface="Comic Sans MS"/>
              </a:rPr>
              <a:t>( g, b</a:t>
            </a:r>
            <a:r>
              <a:rPr b="0" lang="en-US" sz="1400" spc="-1" strike="noStrike">
                <a:solidFill>
                  <a:srgbClr val="280bfb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280bfb"/>
                </a:solidFill>
                <a:latin typeface="Comic Sans MS"/>
              </a:rPr>
              <a:t>, F</a:t>
            </a:r>
            <a:r>
              <a:rPr b="0" lang="en-US" sz="1400" spc="-1" strike="noStrike">
                <a:solidFill>
                  <a:srgbClr val="280bfb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280bfb"/>
                </a:solidFill>
                <a:latin typeface="Comic Sans MS"/>
              </a:rPr>
              <a:t> )     </a:t>
            </a:r>
            <a:r>
              <a:rPr b="0" lang="en-US" sz="2400" spc="-1" strike="noStrike">
                <a:solidFill>
                  <a:srgbClr val="280bfb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280bfb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   ( G, F</a:t>
            </a: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nc</a:t>
            </a: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G(g,b) </a:t>
            </a:r>
            <a:r>
              <a:rPr b="0" lang="en-US" sz="2400" spc="-1" strike="noStrike">
                <a:solidFill>
                  <a:srgbClr val="80008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 Modified 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280bfb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bfb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280bfb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280bfb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80bfb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80bfb"/>
                </a:solidFill>
                <a:latin typeface="Comic Sans MS"/>
              </a:rPr>
              <a:t> Global mode  </a:t>
            </a:r>
            <a:r>
              <a:rPr b="0" lang="en-US" sz="2400" spc="-1" strike="noStrike">
                <a:solidFill>
                  <a:srgbClr val="280bfb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80bfb"/>
                </a:solidFill>
                <a:latin typeface="Comic Sans MS"/>
              </a:rPr>
              <a:t> NC geometry on a D-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Non-linear electric field:  E</a:t>
            </a:r>
            <a:r>
              <a:rPr b="0" lang="en-US" sz="1600" spc="-1" strike="noStrike">
                <a:solidFill>
                  <a:srgbClr val="800080"/>
                </a:solidFill>
                <a:latin typeface="Comic Sans MS"/>
              </a:rPr>
              <a:t>nl</a:t>
            </a: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 = (b + 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NC (theta)</a:t>
            </a:r>
            <a:r>
              <a:rPr b="0" lang="en-US" sz="2400" spc="-1" strike="noStrike">
                <a:solidFill>
                  <a:srgbClr val="280bfb"/>
                </a:solidFill>
                <a:latin typeface="Comic Sans MS"/>
              </a:rPr>
              <a:t> term constraints space-time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bfb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80bfb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extra dimensions”</a:t>
            </a:r>
            <a:r>
              <a:rPr b="0" lang="en-US" sz="2400" spc="-1" strike="noStrike">
                <a:solidFill>
                  <a:srgbClr val="280bfb"/>
                </a:solidFill>
                <a:latin typeface="Comic Sans MS"/>
              </a:rPr>
              <a:t> in the for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D-Brane Dynamics</a:t>
            </a:r>
            <a:r>
              <a:rPr b="1" lang="en-US" sz="3200" spc="-1" strike="noStrike">
                <a:solidFill>
                  <a:srgbClr val="def6f1"/>
                </a:solidFill>
                <a:latin typeface="Comic Sans MS"/>
              </a:rPr>
              <a:t>……………………………………….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5105520" cy="981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5029200" cy="990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33520" y="5334120"/>
            <a:ext cx="51051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33520" y="5791320"/>
            <a:ext cx="5257800" cy="752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6400800" y="1295280"/>
            <a:ext cx="2743200" cy="476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6477120" y="2133720"/>
            <a:ext cx="243828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6400800" y="5638680"/>
            <a:ext cx="2743200" cy="979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0" y="1143000"/>
            <a:ext cx="6400800" cy="1905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486400" y="33526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Wingdings"/>
                <a:ea typeface="Wingdings"/>
              </a:rPr>
              <a:t></a:t>
            </a:r>
            <a:r>
              <a:rPr b="1" lang="en-US" sz="16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cc3300"/>
                </a:solidFill>
                <a:latin typeface="Comic Sans MS"/>
              </a:rPr>
              <a:t>Minkowski inequality: |E| =|B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5181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Comic Sans MS"/>
              </a:rPr>
              <a:t>Non-linear electric fiel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Curved Brane Dynamics in String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Bookman Old Style"/>
              </a:rPr>
              <a:t>D3-brane + D=10 type IIB string on K3 X T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800"/>
                </a:solidFill>
                <a:latin typeface="Bookman Old Style"/>
              </a:rPr>
              <a:t>In a static gau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686800" cy="99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3429000" cy="762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257800" y="3200400"/>
            <a:ext cx="3124080" cy="914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57200" y="4114800"/>
            <a:ext cx="3429000" cy="838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5257800" y="4648320"/>
            <a:ext cx="3124080" cy="761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457200" y="5410080"/>
            <a:ext cx="4114800" cy="1025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419720" y="4267080"/>
            <a:ext cx="47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800"/>
                </a:solidFill>
                <a:latin typeface="Comic Sans MS"/>
              </a:rPr>
              <a:t>For a stable minima in V</a:t>
            </a:r>
            <a:r>
              <a:rPr b="0" lang="en-US" sz="1400" spc="-1" strike="noStrike">
                <a:solidFill>
                  <a:srgbClr val="00a800"/>
                </a:solidFill>
                <a:latin typeface="Comic Sans MS"/>
              </a:rPr>
              <a:t>4</a:t>
            </a:r>
            <a:r>
              <a:rPr b="0" lang="en-US" sz="1400" spc="-1" strike="noStrike">
                <a:solidFill>
                  <a:srgbClr val="00a8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a8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a800"/>
                </a:solidFill>
                <a:latin typeface="Comic Sans MS"/>
              </a:rPr>
              <a:t>L</a:t>
            </a:r>
            <a:r>
              <a:rPr b="0" lang="en-US" sz="1400" spc="-1" strike="noStrike">
                <a:solidFill>
                  <a:srgbClr val="00a800"/>
                </a:solidFill>
                <a:latin typeface="Comic Sans MS"/>
              </a:rPr>
              <a:t>mn</a:t>
            </a:r>
            <a:r>
              <a:rPr b="0" lang="en-US" sz="2000" spc="-1" strike="noStrike">
                <a:solidFill>
                  <a:srgbClr val="00a800"/>
                </a:solidFill>
                <a:latin typeface="Comic Sans MS"/>
              </a:rPr>
              <a:t>= Con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8672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800"/>
                </a:solidFill>
                <a:latin typeface="Comic Sans MS"/>
              </a:rPr>
              <a:t>: Const. as L</a:t>
            </a:r>
            <a:r>
              <a:rPr b="0" lang="en-US" sz="1400" spc="-1" strike="noStrike">
                <a:solidFill>
                  <a:srgbClr val="00a800"/>
                </a:solidFill>
                <a:latin typeface="Comic Sans MS"/>
              </a:rPr>
              <a:t>mn</a:t>
            </a:r>
            <a:r>
              <a:rPr b="0" lang="en-US" sz="2000" spc="-1" strike="noStrike">
                <a:solidFill>
                  <a:srgbClr val="00a8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a800"/>
                </a:solidFill>
                <a:latin typeface="Comic Sans MS"/>
              </a:rPr>
              <a:t> fixed point on E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RELEVENT DYNAMICS (</a:t>
            </a:r>
            <a:r>
              <a:rPr b="1" lang="en-US" sz="1600" spc="-1" strike="noStrike">
                <a:solidFill>
                  <a:srgbClr val="ff6600"/>
                </a:solidFill>
                <a:latin typeface="Comic Sans MS"/>
              </a:rPr>
              <a:t>USING NON-COMMUTATIVE SCALING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1148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4114800" cy="99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7200" y="4114800"/>
            <a:ext cx="723888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57200" y="5334120"/>
            <a:ext cx="8458200" cy="1523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791320" y="1447920"/>
            <a:ext cx="2819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1676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800"/>
                </a:solidFill>
                <a:latin typeface="Comic Sans MS"/>
              </a:rPr>
              <a:t>: potential between moduli &amp; F</a:t>
            </a:r>
            <a:r>
              <a:rPr b="0" lang="en-US" sz="1200" spc="-1" strike="noStrike">
                <a:solidFill>
                  <a:srgbClr val="00a8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a800"/>
                </a:solidFill>
                <a:latin typeface="Comic Sans MS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27432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800"/>
                </a:solidFill>
                <a:latin typeface="Comic Sans MS"/>
              </a:rPr>
              <a:t>: electric charge on D</a:t>
            </a:r>
            <a:r>
              <a:rPr b="0" lang="en-US" sz="1400" spc="-1" strike="noStrike">
                <a:solidFill>
                  <a:srgbClr val="00a8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a8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a800"/>
                </a:solidFill>
                <a:latin typeface="Comic Sans MS"/>
              </a:rPr>
              <a:t>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657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800"/>
                </a:solidFill>
                <a:latin typeface="Comic Sans MS"/>
              </a:rPr>
              <a:t>NC-scaling </a:t>
            </a:r>
            <a:r>
              <a:rPr b="0" lang="en-US" sz="2000" spc="-1" strike="noStrike">
                <a:solidFill>
                  <a:srgbClr val="00a8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a800"/>
                </a:solidFill>
                <a:latin typeface="Comic Sans MS"/>
              </a:rPr>
              <a:t>  vacuum field configurations for some of the fiel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8769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4800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800"/>
                </a:solidFill>
                <a:latin typeface="Comic Sans MS"/>
              </a:rPr>
              <a:t>Curved D</a:t>
            </a:r>
            <a:r>
              <a:rPr b="0" lang="en-US" sz="1200" spc="-1" strike="noStrike">
                <a:solidFill>
                  <a:srgbClr val="00a8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a8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a800"/>
                </a:solidFill>
                <a:latin typeface="Comic Sans MS"/>
              </a:rPr>
              <a:t>brane effective 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02:27:48Z</dcterms:created>
  <dc:creator>Strings</dc:creator>
  <dc:description/>
  <dc:language>en-US</dc:language>
  <cp:lastModifiedBy>skar</cp:lastModifiedBy>
  <dcterms:modified xsi:type="dcterms:W3CDTF">2008-03-20T04:36:57Z</dcterms:modified>
  <cp:revision>134</cp:revision>
  <dc:subject/>
  <dc:title>Space-Time Noncommutative Gauge Theories</dc:title>
</cp:coreProperties>
</file>