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png" ContentType="image/png"/>
  <Override PartName="/ppt/media/image43.wmf" ContentType="image/x-wmf"/>
  <Override PartName="/ppt/media/image42.wmf" ContentType="image/x-wmf"/>
  <Override PartName="/ppt/media/image8.png" ContentType="image/png"/>
  <Override PartName="/ppt/media/image40.wmf" ContentType="image/x-wmf"/>
  <Override PartName="/ppt/media/image38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41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1.png" ContentType="image/png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20.wmf" ContentType="image/x-wmf"/>
  <Override PartName="/ppt/media/image57.wmf" ContentType="image/x-wmf"/>
  <Override PartName="/ppt/media/image15.wmf" ContentType="image/x-wmf"/>
  <Override PartName="/ppt/media/image1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6.wmf" ContentType="image/x-wmf"/>
  <Override PartName="/ppt/media/image12.wmf" ContentType="image/x-wmf"/>
  <Override PartName="/ppt/media/image49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6384-A78E-4A36-BB48-7923B231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PWED08, CTS, I.I.T. Kharag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21</a:t>
            </a:r>
            <a:r>
              <a:rPr b="0" lang="en-US" sz="1200" spc="-1" strike="noStrike" baseline="30000">
                <a:solidFill>
                  <a:srgbClr val="bbe0e3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-23</a:t>
            </a:r>
            <a:r>
              <a:rPr b="0" lang="en-US" sz="1200" spc="-1" strike="noStrike" baseline="30000">
                <a:solidFill>
                  <a:srgbClr val="bbe0e3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bbe0e3"/>
                </a:solidFill>
                <a:latin typeface="Arial"/>
              </a:rPr>
              <a:t> Feb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74E8-BA80-4038-8D2B-72E30E2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7061-9B4D-4D7D-9786-CF42689A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8EC6-2670-4F4D-B5F5-09E3901F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A1C9-CAA1-4D1D-A2FD-05215199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761B-2DCE-484F-9976-0F666C0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094B-A1F5-4746-9807-5A94085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1EF2-E6A7-4A2D-B3F7-0AD1AA9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3128-0E8C-4DB9-8F78-DA95BB1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505A-9641-4B2D-A59E-E1CE0DB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9BDF-8522-4A29-BB59-FBEE065A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CBD-30A2-4D53-B3CD-20FCA51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7983-8BFE-4E9B-B57C-080DAC9E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299C-C344-4A38-A14D-5FBA30A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3E3-181B-4C44-9CA9-5B1E6E8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FE87-C7F1-4076-90DA-982BBBB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86B-A527-462D-B7C6-B48CAAAB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D5CF-14DB-4E46-8B1E-BFCED5EB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9658-6F12-48D3-A3B0-373C531C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AEC6-E66E-46AC-887D-1BC81024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1C56-C395-4D13-A03F-A110AB2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1B21-A346-4BA6-AD53-5B6CF35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DB6E-04F4-4F71-8B09-3BB63069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7D6D-8BDC-4CF1-B311-F5DCA30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4325-E997-4442-B8EA-7258CC7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649-F9FB-46EC-9967-FAE593B48E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AC9-15BD-4B48-8A9B-1E5A6F9652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88C4-B6F0-43D6-95BB-8990008E14F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160-FD8A-44E2-AE33-5F8F40534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63.wmf"/><Relationship Id="rId2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9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2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4.wmf"/><Relationship Id="rId1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7.wmf"/><Relationship Id="rId8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32.wmf"/><Relationship Id="rId2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287964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Bodoni MT"/>
              </a:rPr>
              <a:t>Brane Inflation:</a:t>
            </a:r>
            <a:br>
              <a:rPr sz="4800"/>
            </a:br>
            <a:r>
              <a:rPr b="0" lang="en-US" sz="4800" spc="-1" strike="noStrike">
                <a:solidFill>
                  <a:srgbClr val="cc66ff"/>
                </a:solidFill>
                <a:latin typeface="Bodoni MT"/>
              </a:rPr>
              <a:t>From Supergravity To</a:t>
            </a:r>
            <a:br>
              <a:rPr sz="4800"/>
            </a:br>
            <a:r>
              <a:rPr b="0" lang="en-US" sz="4800" spc="-1" strike="noStrike">
                <a:solidFill>
                  <a:srgbClr val="cc66ff"/>
                </a:solidFill>
                <a:latin typeface="Bodoni MT"/>
              </a:rPr>
              <a:t>Tachyonic</a:t>
            </a:r>
            <a:br>
              <a:rPr sz="4800"/>
            </a:b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380880" y="30481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Anjan A 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Center For Theoretical Phy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Jamia Millia Isla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PWED08, CTS, I.I.T Kharagp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entury Schoolbook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-2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entury Schoolbook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 Feb 2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6291CB-3DDA-4617-8B41-52E669EF1B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s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Energy Limit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chaotic mode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sing COBE normaliz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3962520" y="1676520"/>
          <a:ext cx="114300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676520"/>
                    <a:ext cx="11430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"/>
          <p:cNvGraphicFramePr/>
          <p:nvPr/>
        </p:nvGraphicFramePr>
        <p:xfrm>
          <a:off x="4191120" y="2514600"/>
          <a:ext cx="2133360" cy="4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2514600"/>
                    <a:ext cx="2133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5029200" y="3352680"/>
          <a:ext cx="2236680" cy="41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352680"/>
                    <a:ext cx="22366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779400" y="4114800"/>
          <a:ext cx="6180120" cy="46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9400" y="4114800"/>
                    <a:ext cx="61801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1708200" y="4952880"/>
          <a:ext cx="4626000" cy="46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08200" y="4952880"/>
                    <a:ext cx="4626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6FF7F9F-1A2B-4D15-B17F-7873EFDDF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s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Large Field Mod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∞(ex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=45,50,55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0 from top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5562720" y="1676520"/>
          <a:ext cx="281628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676520"/>
                    <a:ext cx="28162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2819520" y="2209680"/>
            <a:ext cx="3851280" cy="40388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6329520" y="62485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Tsujikawa&amp;Liddle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003619-C19F-4BC5-BB29-796AB4388A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s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248000" cy="4635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232560" y="548640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Liddle&amp;Smith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7CBA6FF-E729-4852-AF00-B5B86DDBCC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gravity Hybrid Model: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wo field mod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                                       is fixed at ori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                                    with the first term domin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gravity corre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Brane Correction:                      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o Inf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with brane                                                                       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2057400" y="2286000"/>
          <a:ext cx="525780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286000"/>
                    <a:ext cx="52578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1371600" y="2895480"/>
          <a:ext cx="198108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19810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3581280" y="3048120"/>
          <a:ext cx="28440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3048120"/>
                    <a:ext cx="284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5943600" y="3048120"/>
          <a:ext cx="76824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3048120"/>
                    <a:ext cx="7682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1447920" y="3733920"/>
          <a:ext cx="230328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3733920"/>
                    <a:ext cx="2303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3581280" y="4419720"/>
          <a:ext cx="1408320" cy="4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4419720"/>
                    <a:ext cx="14083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4191120" y="5105520"/>
          <a:ext cx="99684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91120" y="5105520"/>
                    <a:ext cx="9968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6553080" y="5791320"/>
          <a:ext cx="220680" cy="32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5791320"/>
                    <a:ext cx="2206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5943600" y="5638680"/>
            <a:ext cx="2438280" cy="6858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2209680" y="5791320"/>
          <a:ext cx="1197000" cy="43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791320"/>
                    <a:ext cx="1197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5763240" y="632448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Bento,Bertolami,Sen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DD19AC5-9B36-47FD-AE87-EB98B714BA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s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791320" y="2133720"/>
          <a:ext cx="195552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133720"/>
                    <a:ext cx="1955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533520" y="1676520"/>
            <a:ext cx="4208400" cy="434340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5281560" y="21495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46280" y="28353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5791320" y="2819520"/>
          <a:ext cx="194616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819520"/>
                    <a:ext cx="1946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0" name=""/>
          <p:cNvSpPr/>
          <p:nvPr/>
        </p:nvSpPr>
        <p:spPr>
          <a:xfrm>
            <a:off x="5268600" y="35416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813280" y="3490920"/>
          <a:ext cx="208620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3280" y="3490920"/>
                    <a:ext cx="208620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793480" y="16002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N=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5029200" y="4267080"/>
          <a:ext cx="3363840" cy="44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4267080"/>
                    <a:ext cx="3363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723888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6248520" y="5257800"/>
          <a:ext cx="2157120" cy="29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257800"/>
                    <a:ext cx="215712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D43AD2-F2F7-4071-B9A6-725930FBE5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Tachyon Infl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ffective Tachyon Field action in B-I Fo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aries from 0 to infi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top of the potential T=0 (where inflation occurs),                , one can write it in a canno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with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447920" y="2286000"/>
          <a:ext cx="670536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286000"/>
                    <a:ext cx="6705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071720" y="3048120"/>
          <a:ext cx="5994360" cy="37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3048120"/>
                    <a:ext cx="5994360" cy="37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2438280" y="4724280"/>
          <a:ext cx="1298520" cy="34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724280"/>
                    <a:ext cx="12985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2209680" y="5181480"/>
          <a:ext cx="2021040" cy="34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181480"/>
                    <a:ext cx="202104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2057400" y="5791320"/>
          <a:ext cx="2870280" cy="34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5791320"/>
                    <a:ext cx="2870280" cy="34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5486400" y="5867280"/>
          <a:ext cx="1425600" cy="346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67280"/>
                    <a:ext cx="142560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76A1E9-9F5F-4EA6-8437-2BE6007FD4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Tachyon Inflation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609480" y="1752480"/>
          <a:ext cx="1325520" cy="5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752480"/>
                    <a:ext cx="13255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610560" y="2438280"/>
            <a:ext cx="70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Without brane correction, Inflation occurs only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uper-Planckian values for</a:t>
            </a:r>
            <a:r>
              <a:rPr b="0" lang="en-US" sz="2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4419720" y="2895480"/>
          <a:ext cx="380880" cy="34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895480"/>
                    <a:ext cx="380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"/>
          <p:cNvSpPr/>
          <p:nvPr/>
        </p:nvSpPr>
        <p:spPr>
          <a:xfrm>
            <a:off x="534960" y="365760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But with Brane correction, one can match WMAP data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1427040" y="4502160"/>
          <a:ext cx="6635880" cy="393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7040" y="4502160"/>
                    <a:ext cx="6635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>
            <a:off x="4839120" y="5141880"/>
            <a:ext cx="297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Bento,,Bertolami,,Sen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825AEFE-FAFD-4E84-9C40-BF24F539A8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-Roll Inflation is enhanced by the modifications to the Friedmann eq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enables the simpl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haotic infl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to inflate at field values bel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         ,brane corrections put models away from the scale-invariant spect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     problem in Supergravity models can be solved through brane cor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one can get inflationary model in with tachyon with sub-Planckian values of brane tension but with very weak string coup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3733920" y="2895480"/>
          <a:ext cx="639720" cy="3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2895480"/>
                    <a:ext cx="6397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1371600" y="3276720"/>
          <a:ext cx="868320" cy="35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276720"/>
                    <a:ext cx="8683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523880" y="4114800"/>
          <a:ext cx="255600" cy="374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4114800"/>
                    <a:ext cx="25560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19E3020-4BD5-4950-989C-9691EC08CA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n of the tal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rief 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e Inflation: Slow-Roll Form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otic Model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gravity Mode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hyon Mod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048120" y="3276720"/>
          <a:ext cx="1490400" cy="422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3276720"/>
                    <a:ext cx="14904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3733920" y="4038480"/>
          <a:ext cx="2162160" cy="420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33920" y="4038480"/>
                    <a:ext cx="21621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3124080" y="4800600"/>
          <a:ext cx="5448600" cy="365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124080" y="4800600"/>
                    <a:ext cx="54486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219F514-6728-4DDF-BFBC-1325D91B33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Effective 4-D Einstein’s Equ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-360" y="1066680"/>
            <a:ext cx="8534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all –Sundrum II  Model: Infinite Extra Dim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nstein’s Equations hold in the 5-D bulk,  with 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ological Constant as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 fields are confined to the 3-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4-dimensional Einstein’s equation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9999"/>
                </a:solidFill>
                <a:latin typeface="Arial"/>
              </a:rPr>
              <a:t>Shiromizu et.al (gr-qc/9910076</a:t>
            </a:r>
            <a:r>
              <a:rPr b="0" lang="en-US" sz="2400" spc="-1" strike="noStrike">
                <a:solidFill>
                  <a:srgbClr val="ff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4191120"/>
          <a:ext cx="7010280" cy="617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4191120"/>
                    <a:ext cx="70102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 flipH="1">
            <a:off x="2437920" y="5105520"/>
            <a:ext cx="22860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4800600"/>
            <a:ext cx="0" cy="48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1722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5334120"/>
            <a:ext cx="914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35880" y="53341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4-D C.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40400" y="533412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E.M.T of ma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On bra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79920" y="541008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Quadr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324480" y="5715000"/>
          <a:ext cx="411120" cy="322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24480" y="5715000"/>
                    <a:ext cx="41112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6935760" y="5433840"/>
            <a:ext cx="178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PRJ. Of 5-D Wey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99ff"/>
                </a:solidFill>
                <a:latin typeface="Arial"/>
              </a:rPr>
              <a:t>ten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92747BC-1CC5-477F-A132-C8DBD9752C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fdef6"/>
                </a:solidFill>
                <a:latin typeface="Arial"/>
              </a:rPr>
              <a:t>Effective 4-D Einstein’s Equation Cont.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ive 4-D C.C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D Planck Mass 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-R-W Cosmology in 4-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Eq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0" y="1676520"/>
          <a:ext cx="2168640" cy="480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676520"/>
                    <a:ext cx="21686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4572000" y="2666880"/>
          <a:ext cx="212076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2666880"/>
                    <a:ext cx="21207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1600200" y="4267080"/>
          <a:ext cx="5181480" cy="736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4267080"/>
                    <a:ext cx="5181480" cy="736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"/>
          <p:cNvSpPr/>
          <p:nvPr/>
        </p:nvSpPr>
        <p:spPr>
          <a:xfrm>
            <a:off x="2590920" y="4495680"/>
            <a:ext cx="45720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460760"/>
            <a:ext cx="644400" cy="644760"/>
          </a:xfrm>
          <a:custGeom>
            <a:avLst/>
            <a:gdLst/>
            <a:ahLst/>
            <a:rect l="l" t="t" r="r" b="b"/>
            <a:pathLst>
              <a:path w="406" h="406">
                <a:moveTo>
                  <a:pt x="406" y="0"/>
                </a:moveTo>
                <a:lnTo>
                  <a:pt x="0" y="4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4495680"/>
            <a:ext cx="45720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361960" y="4572000"/>
            <a:ext cx="53316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400800" y="4495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44197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657600" y="5715000"/>
          <a:ext cx="2514600" cy="49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7600" y="5715000"/>
                    <a:ext cx="2514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60199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22800" y="6491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5-D cor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81720" y="548640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Nucleosynthe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Bound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7315200" y="5867280"/>
          <a:ext cx="1004760" cy="209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15200" y="5867280"/>
                    <a:ext cx="10047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6781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15200" y="28098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315200" y="2895480"/>
          <a:ext cx="976320" cy="236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15200" y="2895480"/>
                    <a:ext cx="97632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C0BE00B-A295-4B46-8702-8C1C7BDF9A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fdef6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Slow-Roll Inflation On Bran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brane dominated by a scalar field with potential        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ein-Gordon Equ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for Inf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419720" y="3352680"/>
          <a:ext cx="284292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352680"/>
                    <a:ext cx="28429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2057400" y="2057400"/>
          <a:ext cx="654120" cy="361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057400" y="2057400"/>
                    <a:ext cx="6541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838080" y="1676520"/>
          <a:ext cx="401760" cy="366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1676520"/>
                    <a:ext cx="4017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219320" y="2514600"/>
          <a:ext cx="269712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2514600"/>
                    <a:ext cx="26971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4191120" y="2514600"/>
          <a:ext cx="274320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91120" y="2514600"/>
                    <a:ext cx="2743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4191120" y="4191120"/>
          <a:ext cx="3286080" cy="630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191120" y="4191120"/>
                    <a:ext cx="32860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6705720" y="4191120"/>
            <a:ext cx="91440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495680"/>
            <a:ext cx="609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15200" y="4876920"/>
            <a:ext cx="763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48006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62920" y="4800600"/>
            <a:ext cx="7596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47242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162920" y="4724280"/>
            <a:ext cx="15228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315200" y="4267080"/>
            <a:ext cx="7621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0120" y="4267080"/>
            <a:ext cx="7596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29600" y="4724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400800" y="4038480"/>
            <a:ext cx="8380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8200" y="5181480"/>
            <a:ext cx="4572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915400" y="5638680"/>
            <a:ext cx="5335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153280" y="5943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61722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86600" y="44197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05720" y="4572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29400" y="4572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43800" y="49528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0" y="5181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763120" y="52578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0" y="6019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0" y="6019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0" y="60199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763120" y="5867280"/>
            <a:ext cx="38088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77320" y="5867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77320" y="59436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144000" y="56386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915400" y="5486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915400" y="5486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915400" y="5486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5486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915400" y="54864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29000" y="5105520"/>
            <a:ext cx="5715000" cy="1447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429000" y="6477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4952880"/>
            <a:ext cx="761760" cy="2286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65800" y="52578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5-D cor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1143000" y="5715000"/>
          <a:ext cx="2770200" cy="401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3000" y="5715000"/>
                    <a:ext cx="27702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BE5AC5A-28D4-4C60-951A-AFB4B9CE08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Slow-Roll Inflation Cont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-76320" y="1523520"/>
            <a:ext cx="9220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w-Roll Approxim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nergy density is potential dominated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ield Evolution is strongly damped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 Equations: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ow-Roll Parameter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flation 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66"/>
                </a:solidFill>
                <a:latin typeface="Arial"/>
              </a:rPr>
              <a:t>    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66"/>
                </a:solidFill>
                <a:latin typeface="Arial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otal No. of e-folding :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200400" y="3429000"/>
          <a:ext cx="23702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3429000"/>
                    <a:ext cx="23702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5105520" y="2057400"/>
          <a:ext cx="161748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2057400"/>
                    <a:ext cx="16174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5105520" y="2666880"/>
          <a:ext cx="14983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2666880"/>
                    <a:ext cx="1498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6172200" y="3429000"/>
          <a:ext cx="1371600" cy="51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342900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3276720" y="4191120"/>
          <a:ext cx="252864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4191120"/>
                    <a:ext cx="2528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19920" y="4191120"/>
          <a:ext cx="2017440" cy="480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4191120"/>
                    <a:ext cx="2017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3048120" y="4952880"/>
          <a:ext cx="1671480" cy="277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48120" y="4952880"/>
                    <a:ext cx="167148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3629160" y="5638680"/>
          <a:ext cx="2622240" cy="4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29160" y="5638680"/>
                    <a:ext cx="2622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5791320" y="6095880"/>
            <a:ext cx="457200" cy="15264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59436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Allow a certain e-fold with sma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153280" y="6248520"/>
          <a:ext cx="198720" cy="252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53280" y="6248520"/>
                    <a:ext cx="19872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17588C-D469-4A29-BC52-A986842526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Density Perturbation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tudes of the Perturb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al Index of Scalar Perturbation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 of tensor to scalar perturb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914400" y="2333520"/>
          <a:ext cx="3692520" cy="56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33520"/>
                    <a:ext cx="36925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5029200" y="2362320"/>
          <a:ext cx="277020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2362320"/>
                    <a:ext cx="27702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533520" y="3124080"/>
          <a:ext cx="639432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3124080"/>
                    <a:ext cx="639432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6633360" y="34290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Hep-th/0006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429000" y="4800600"/>
          <a:ext cx="329400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4800600"/>
                    <a:ext cx="32940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7010280" y="4267080"/>
          <a:ext cx="1676520" cy="38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10280" y="4267080"/>
                    <a:ext cx="16765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7010280" y="5257800"/>
          <a:ext cx="10098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5257800"/>
                    <a:ext cx="1009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5BE62AD-D53D-4BA6-9A18-9189E0C807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Density Perturbation Cont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Large Field Mod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rolls from a high initial value: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otic inf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mall Field Mod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roll from a small initial value: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ew inf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Hybrid mod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nflation ends by the phase transition triggered by second scalar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914400" y="2590920"/>
          <a:ext cx="1523880" cy="36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590920"/>
                    <a:ext cx="1523880" cy="36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4495680" y="1676520"/>
          <a:ext cx="1517760" cy="38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676520"/>
                    <a:ext cx="1517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4191120" y="2895480"/>
          <a:ext cx="1828800" cy="70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2895480"/>
                    <a:ext cx="18288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939960" y="4006800"/>
          <a:ext cx="868320" cy="36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39960" y="4006800"/>
                    <a:ext cx="8683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990720" y="5334120"/>
          <a:ext cx="941400" cy="366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90720" y="5334120"/>
                    <a:ext cx="9414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48B6F70-3185-430D-8A78-EA2F0730F8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Observational Resul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5024520" y="1599840"/>
            <a:ext cx="3286080" cy="219060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3973320" cy="46479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4500720" y="579132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sujikawa,Liddle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34240" y="205740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mall-large field boundar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86880" y="342900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Large field-Hybrid bound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562720" y="4191120"/>
          <a:ext cx="1855800" cy="35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4191120"/>
                    <a:ext cx="18558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562720" y="2743200"/>
          <a:ext cx="1855800" cy="35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62720" y="2743200"/>
                    <a:ext cx="18558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WED08, CTS, IIT Kharagpu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8BFD46-84D8-4312-B5C0-6945E17A9D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5:59:34Z</dcterms:created>
  <dc:creator>anjan</dc:creator>
  <dc:description/>
  <dc:language>en-US</dc:language>
  <cp:lastModifiedBy>anjan</cp:lastModifiedBy>
  <dcterms:modified xsi:type="dcterms:W3CDTF">2008-02-22T04:38:23Z</dcterms:modified>
  <cp:revision>18</cp:revision>
  <dc:subject/>
  <dc:title>Brane Inflation: From Supergravity To Tachyonic </dc:title>
</cp:coreProperties>
</file>