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34.png" ContentType="image/png"/>
  <Override PartName="/ppt/media/image38.wmf" ContentType="image/x-wmf"/>
  <Override PartName="/ppt/media/image40.png" ContentType="image/png"/>
  <Override PartName="/ppt/media/image42.wmf" ContentType="image/x-wmf"/>
  <Override PartName="/ppt/media/image32.png" ContentType="image/png"/>
  <Override PartName="/ppt/media/image52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media/image30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3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39.wmf" ContentType="image/x-wmf"/>
  <Override PartName="/ppt/media/image9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DFC1-485B-4438-AE6C-CAD9511F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) Whereas PYTHIA uses parton-parton scatters (gluons and quarks) down to low-pT (sat on quark-diquark chains), DPM only connects quarks (valence and sea)?  Presumably this means gluon interactions only occur in PHOJET for the hard scatte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1B1-1AD7-475F-8CE5-3CA2F4A3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5B1-4B85-4A8B-9CDA-13E4C697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3C7-A706-4557-A702-3970FAE6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928-45E9-4DDD-BB57-4F44A07A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12D-E88E-4CEA-BE34-F2333F0C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88E-52AA-4BE5-92AA-5CF598A4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E57-AF72-46C3-87A9-FBFEA472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D5C-9F22-4F3C-8E1B-4B137724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3FB-B5B2-4CB3-B4F9-16B106F2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FD4-E5C6-4AC7-B30B-8FD2B824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831-95E1-453A-A03F-5B76E5F5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CFA-0464-45D3-9C0E-10C66523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75C7-06FB-4EBD-9F23-F589D5B33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dentifying Graviton Signals at the LHC :  a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276720"/>
            <a:ext cx="45720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Sreerup Raychaudh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FR, Mum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410080"/>
            <a:ext cx="8077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Bookman Old Style"/>
              </a:rPr>
              <a:t>Workshop on the Physics of Warped Extra 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Bookman Old Style"/>
              </a:rPr>
              <a:t>IIT-KGP, Feb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17524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are the uncertainties in calc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457200"/>
            <a:ext cx="82296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kinds of uncertain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odel uncertain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PDF uncertain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experimental uncertain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3295800"/>
            <a:ext cx="800100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uncertain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We do not have a unique mod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DD model calculations have a strong cutoff dependenc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– truncatio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S-GW model calculations neglect back-reactio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304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uncation iss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219320"/>
            <a:ext cx="853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 in the ADD model is around a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LHC experiments will actually achieve this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ow-energy effective theory breaks down at the cutof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352680"/>
            <a:ext cx="8382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ease in calculation, we generally cut off such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nteresting new physics effects may lie just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o predict something, we require a (toy) string the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307800"/>
            <a:ext cx="85345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3049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DF uncertainti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219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We do not really know the PDFs at LHC energies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– will require “educated” extrapolation from Tevatr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37816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evatron had initially found an excess in high-pT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t was soon explained away as a PDF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t appeared in al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ame phenomenon may well repeat at LH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viton effects also appear in all process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ensure that graviton effects are not misinterpreted as PDF effec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673360" y="3544920"/>
          <a:ext cx="37476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3360" y="3544920"/>
                    <a:ext cx="3747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8775720" cy="1447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8955000" cy="2895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0880" y="5334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an we combine this with some sort of spin measurements etc to increase the sensi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80880"/>
            <a:ext cx="8610480" cy="160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304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particle inter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143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pectator model is no longer very accurate at LHC energies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– we will have multi-parton interactions (minimum bias 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51460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erimental excess CS =     New physics ex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 PDF ex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  Minimum bias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naive analysis, excess cross-section could be interpreted as PDF/MB effect or a new physics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we assume no new physics, PDF effect may get mixed up with minimum bias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quire to filter out the minimum bias eff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heavily model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188640"/>
            <a:ext cx="73137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8000"/>
                </a:solidFill>
                <a:uFillTx/>
                <a:latin typeface="Times New Roman"/>
              </a:rPr>
              <a:t>Models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GB" sz="3600" spc="-1" strike="noStrike" u="sng">
                <a:solidFill>
                  <a:srgbClr val="008000"/>
                </a:solidFill>
                <a:uFillTx/>
                <a:latin typeface="Times New Roman"/>
              </a:rPr>
              <a:t>for hadron-hadron coll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1413000"/>
            <a:ext cx="7561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629080" y="4619520"/>
            <a:ext cx="2158560" cy="1546200"/>
            <a:chOff x="2629080" y="4619520"/>
            <a:chExt cx="2158560" cy="154620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2629080" y="4744800"/>
              <a:ext cx="73728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"/>
            <a:stretch/>
          </p:blipFill>
          <p:spPr>
            <a:xfrm>
              <a:off x="4050360" y="5306040"/>
              <a:ext cx="737280" cy="73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366360" y="5036760"/>
              <a:ext cx="334440" cy="125280"/>
            </a:xfrm>
            <a:custGeom>
              <a:avLst/>
              <a:gdLst>
                <a:gd name="textAreaLeft" fmla="*/ 52200 w 334440"/>
                <a:gd name="textAreaRight" fmla="*/ 292680 w 334440"/>
                <a:gd name="textAreaTop" fmla="*/ 31320 h 125280"/>
                <a:gd name="textAreaBottom" fmla="*/ 9396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0800000">
              <a:off x="3700080" y="5580360"/>
              <a:ext cx="334440" cy="125280"/>
            </a:xfrm>
            <a:custGeom>
              <a:avLst/>
              <a:gdLst>
                <a:gd name="textAreaLeft" fmla="*/ 52200 w 334440"/>
                <a:gd name="textAreaRight" fmla="*/ 292680 w 334440"/>
                <a:gd name="textAreaTop" fmla="*/ 31320 h 125280"/>
                <a:gd name="textAreaBottom" fmla="*/ 93960 h 12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01160" y="5204520"/>
              <a:ext cx="0" cy="37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23840" y="528732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740680" y="5538240"/>
              <a:ext cx="792000" cy="627480"/>
              <a:chOff x="2740680" y="5538240"/>
              <a:chExt cx="792000" cy="62748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2823480" y="5622840"/>
                <a:ext cx="626400" cy="542880"/>
              </a:xfrm>
              <a:prstGeom prst="line">
                <a:avLst/>
              </a:prstGeom>
              <a:ln w="28440">
                <a:solidFill>
                  <a:srgbClr val="cccc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3199320" y="5705640"/>
                <a:ext cx="333360" cy="459720"/>
              </a:xfrm>
              <a:prstGeom prst="line">
                <a:avLst/>
              </a:prstGeom>
              <a:ln w="28440">
                <a:solidFill>
                  <a:srgbClr val="cccc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740680" y="5538240"/>
                <a:ext cx="626400" cy="292680"/>
              </a:xfrm>
              <a:prstGeom prst="line">
                <a:avLst/>
              </a:prstGeom>
              <a:ln w="28440">
                <a:solidFill>
                  <a:srgbClr val="cccc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951000" y="4619520"/>
              <a:ext cx="668880" cy="625320"/>
              <a:chOff x="3951000" y="4619520"/>
              <a:chExt cx="668880" cy="62532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992400" y="4619520"/>
                <a:ext cx="626400" cy="542520"/>
              </a:xfrm>
              <a:prstGeom prst="line">
                <a:avLst/>
              </a:prstGeom>
              <a:ln w="28440">
                <a:solidFill>
                  <a:srgbClr val="cccc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951000" y="4703040"/>
                <a:ext cx="250560" cy="375840"/>
              </a:xfrm>
              <a:prstGeom prst="line">
                <a:avLst/>
              </a:prstGeom>
              <a:ln w="28440">
                <a:solidFill>
                  <a:srgbClr val="cccc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076280" y="4952880"/>
                <a:ext cx="543600" cy="291960"/>
              </a:xfrm>
              <a:prstGeom prst="line">
                <a:avLst/>
              </a:prstGeom>
              <a:ln w="28440">
                <a:solidFill>
                  <a:srgbClr val="cccc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"/>
          <p:cNvSpPr/>
          <p:nvPr/>
        </p:nvSpPr>
        <p:spPr>
          <a:xfrm>
            <a:off x="324000" y="3933720"/>
            <a:ext cx="467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creasing p</a:t>
            </a:r>
            <a:r>
              <a:rPr b="0" lang="en-GB" sz="1500" spc="-1" strike="noStrike" baseline="-10000">
                <a:solidFill>
                  <a:srgbClr val="000000"/>
                </a:solidFill>
                <a:latin typeface="Arial"/>
              </a:rPr>
              <a:t>Tmi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increases number of parton-parton interactions, and vice-vers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62200" y="2997360"/>
            <a:ext cx="2305080" cy="718920"/>
          </a:xfrm>
          <a:prstGeom prst="rect">
            <a:avLst/>
          </a:prstGeom>
          <a:solidFill>
            <a:srgbClr val="ffcc66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35280" y="2989440"/>
                <a:ext cx="21160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)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22280" y="137628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PYTH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4653000"/>
            <a:ext cx="2305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ultiple interaction model needed to describe dat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Correlations introduced via a </a:t>
            </a:r>
            <a:r>
              <a:rPr b="1" lang="en-GB" sz="1500" spc="-1" strike="noStrike">
                <a:solidFill>
                  <a:srgbClr val="008000"/>
                </a:solidFill>
                <a:latin typeface="Arial"/>
              </a:rPr>
              <a:t>varying impact parameter</a:t>
            </a: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840" y="126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PHO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692280"/>
            <a:ext cx="7704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Need to connect </a:t>
            </a:r>
            <a:r>
              <a:rPr b="0" lang="en-GB" sz="1700" spc="-1" strike="noStrike">
                <a:solidFill>
                  <a:srgbClr val="cc0000"/>
                </a:solidFill>
                <a:latin typeface="Arial"/>
              </a:rPr>
              <a:t>hard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cattering processes (perturbative QCD) to the </a:t>
            </a:r>
            <a:r>
              <a:rPr b="0" lang="en-GB" sz="1700" spc="-1" strike="noStrike">
                <a:solidFill>
                  <a:srgbClr val="cc0000"/>
                </a:solidFill>
                <a:latin typeface="Arial"/>
              </a:rPr>
              <a:t>soft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ocesses (non-perturbative models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1844640"/>
            <a:ext cx="403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empts to extend perturbative high-pt picture down to the low-p</a:t>
            </a:r>
            <a:r>
              <a:rPr b="0" lang="en-GB" sz="1500" spc="-1" strike="noStrike" baseline="-10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reg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Parton-parton cross section become larger than proton-proton - interpreted as multiple parton interac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008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8200" y="644832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ysics at LHC - Pr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76720" y="1773360"/>
            <a:ext cx="388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veloped mainly for </a:t>
            </a:r>
            <a:r>
              <a:rPr b="0" lang="en-GB" sz="1500" spc="-1" strike="noStrike">
                <a:solidFill>
                  <a:srgbClr val="cc0000"/>
                </a:solidFill>
                <a:latin typeface="Arial"/>
              </a:rPr>
              <a:t>soft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1500" spc="-1" strike="noStrike">
                <a:solidFill>
                  <a:srgbClr val="cc0000"/>
                </a:solidFill>
                <a:latin typeface="Arial"/>
              </a:rPr>
              <a:t>semi-hard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particle produc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74"/>
              </a:spcBef>
              <a:buClr>
                <a:srgbClr val="008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Implements ideas of </a:t>
            </a:r>
            <a:r>
              <a:rPr b="1" lang="en-GB" sz="1500" spc="-1" strike="noStrike">
                <a:solidFill>
                  <a:srgbClr val="008000"/>
                </a:solidFill>
                <a:latin typeface="Arial"/>
              </a:rPr>
              <a:t>Dual Parton Model</a:t>
            </a: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 for low-p</a:t>
            </a:r>
            <a:r>
              <a:rPr b="0" lang="en-GB" sz="1500" spc="-1" strike="noStrike" baseline="-10000">
                <a:solidFill>
                  <a:srgbClr val="008000"/>
                </a:solidFill>
                <a:latin typeface="Arial"/>
              </a:rPr>
              <a:t>T</a:t>
            </a: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374"/>
              </a:spcBef>
              <a:buClr>
                <a:srgbClr val="008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Multiple </a:t>
            </a:r>
            <a:r>
              <a:rPr b="1" lang="en-GB" sz="1500" spc="-1" strike="noStrike">
                <a:solidFill>
                  <a:srgbClr val="008000"/>
                </a:solidFill>
                <a:latin typeface="Arial"/>
              </a:rPr>
              <a:t>Pomeron</a:t>
            </a: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 exchanges give rise to sea-quark multi-chain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141720"/>
            <a:ext cx="3959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nlike PYTHIA, HERWIG etc., PHOJET not developed for Standard Model (and beyond) physics analy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8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Limited to production mechanisms of strong interaction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008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However, useful tool for </a:t>
            </a:r>
            <a:r>
              <a:rPr b="1" lang="en-GB" sz="1500" spc="-1" strike="noStrike">
                <a:solidFill>
                  <a:srgbClr val="008000"/>
                </a:solidFill>
                <a:latin typeface="Arial"/>
              </a:rPr>
              <a:t>MB</a:t>
            </a: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 and </a:t>
            </a:r>
            <a:r>
              <a:rPr b="1" lang="en-GB" sz="1500" spc="-1" strike="noStrike">
                <a:solidFill>
                  <a:srgbClr val="008000"/>
                </a:solidFill>
                <a:latin typeface="Arial"/>
              </a:rPr>
              <a:t>UE</a:t>
            </a:r>
            <a:r>
              <a:rPr b="0" lang="en-GB" sz="1500" spc="-1" strike="noStrike">
                <a:solidFill>
                  <a:srgbClr val="008000"/>
                </a:solidFill>
                <a:latin typeface="Arial"/>
              </a:rPr>
              <a:t> studies where jets are involved</a:t>
            </a:r>
            <a:r>
              <a:rPr b="0" lang="en-GB" sz="15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84720" y="4765680"/>
            <a:ext cx="2184480" cy="1631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6324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awson, Butter &amp; Moraes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2895480" cy="640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5960" y="544320"/>
            <a:ext cx="2741760" cy="4560840"/>
            <a:chOff x="75960" y="544320"/>
            <a:chExt cx="2741760" cy="4560840"/>
          </a:xfrm>
        </p:grpSpPr>
        <p:sp>
          <p:nvSpPr>
            <p:cNvPr id="53" name=""/>
            <p:cNvSpPr/>
            <p:nvPr/>
          </p:nvSpPr>
          <p:spPr>
            <a:xfrm rot="16200000">
              <a:off x="1400400" y="3317400"/>
              <a:ext cx="83520" cy="8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75960" y="2871000"/>
              <a:ext cx="1358640" cy="2234160"/>
              <a:chOff x="75960" y="2871000"/>
              <a:chExt cx="1358640" cy="2234160"/>
            </a:xfrm>
          </p:grpSpPr>
          <p:sp>
            <p:nvSpPr>
              <p:cNvPr id="55" name=""/>
              <p:cNvSpPr/>
              <p:nvPr/>
            </p:nvSpPr>
            <p:spPr>
              <a:xfrm rot="16200000">
                <a:off x="663480" y="3861720"/>
                <a:ext cx="207000" cy="207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732240" y="4068720"/>
                <a:ext cx="0" cy="10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801360" y="4068720"/>
                <a:ext cx="0" cy="10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812880" y="3331800"/>
                <a:ext cx="6217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flipV="1">
                <a:off x="75960" y="2998080"/>
                <a:ext cx="621720" cy="89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 flipV="1">
                <a:off x="179280" y="2894400"/>
                <a:ext cx="552600" cy="9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98640" y="2871000"/>
                <a:ext cx="621720" cy="10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435320" y="2871000"/>
              <a:ext cx="1382400" cy="2234160"/>
              <a:chOff x="1435320" y="2871000"/>
              <a:chExt cx="1382400" cy="2234160"/>
            </a:xfrm>
          </p:grpSpPr>
          <p:sp>
            <p:nvSpPr>
              <p:cNvPr id="63" name=""/>
              <p:cNvSpPr/>
              <p:nvPr/>
            </p:nvSpPr>
            <p:spPr>
              <a:xfrm flipV="1" rot="16200000">
                <a:off x="2011320" y="3859560"/>
                <a:ext cx="207000" cy="210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149920" y="4068720"/>
                <a:ext cx="0" cy="10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79360" y="4068720"/>
                <a:ext cx="0" cy="10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435320" y="3331800"/>
                <a:ext cx="632520" cy="55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2185200" y="2998080"/>
                <a:ext cx="632520" cy="89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149920" y="2894400"/>
                <a:ext cx="562320" cy="9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162160" y="2871000"/>
                <a:ext cx="632520" cy="10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1434960" y="1684440"/>
              <a:ext cx="0" cy="16581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592560" y="544320"/>
              <a:ext cx="829080" cy="11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433880" y="544320"/>
              <a:ext cx="921240" cy="1105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1389240" y="1627200"/>
              <a:ext cx="83520" cy="8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609480" y="5257800"/>
          <a:ext cx="16002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257800"/>
                    <a:ext cx="1600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155600" y="5715000"/>
          <a:ext cx="93996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5600" y="5715000"/>
                    <a:ext cx="9399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048120" y="0"/>
            <a:ext cx="2895480" cy="6400800"/>
            <a:chOff x="3048120" y="0"/>
            <a:chExt cx="2895480" cy="6400800"/>
          </a:xfrm>
        </p:grpSpPr>
        <p:sp>
          <p:nvSpPr>
            <p:cNvPr id="79" name=""/>
            <p:cNvSpPr/>
            <p:nvPr/>
          </p:nvSpPr>
          <p:spPr>
            <a:xfrm>
              <a:off x="3048120" y="0"/>
              <a:ext cx="2895480" cy="6400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4450320" y="3394800"/>
              <a:ext cx="8280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3711600" y="3938040"/>
              <a:ext cx="207720" cy="2080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781440" y="4146480"/>
              <a:ext cx="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849840" y="4146480"/>
              <a:ext cx="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862440" y="3408480"/>
              <a:ext cx="622080" cy="552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123720" y="3072960"/>
              <a:ext cx="622440" cy="9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3227040" y="2970360"/>
              <a:ext cx="55404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147480" y="2947680"/>
              <a:ext cx="6224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 rot="16200000">
              <a:off x="5060160" y="3936960"/>
              <a:ext cx="207720" cy="2095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199120" y="4146480"/>
              <a:ext cx="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127480" y="4146480"/>
              <a:ext cx="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484520" y="3408480"/>
              <a:ext cx="632160" cy="552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234040" y="3072960"/>
              <a:ext cx="631800" cy="9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197320" y="2970360"/>
              <a:ext cx="56376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208480" y="2947680"/>
              <a:ext cx="63360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484520" y="1762200"/>
              <a:ext cx="0" cy="1658880"/>
            </a:xfrm>
            <a:prstGeom prst="line">
              <a:avLst/>
            </a:prstGeom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641760" y="620640"/>
              <a:ext cx="830160" cy="11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483080" y="620640"/>
              <a:ext cx="922320" cy="11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4437000" y="1704600"/>
              <a:ext cx="8244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954600" y="457200"/>
              <a:ext cx="463320" cy="579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3187800" y="5245200"/>
            <a:ext cx="25905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87800" y="5245200"/>
                      <a:ext cx="25905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3797280" y="5587920"/>
            <a:ext cx="1193760" cy="432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97280" y="5587920"/>
                      <a:ext cx="119376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327480" y="5956200"/>
            <a:ext cx="2158920" cy="432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27480" y="5956200"/>
                      <a:ext cx="21589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6" name=""/>
          <p:cNvGrpSpPr/>
          <p:nvPr/>
        </p:nvGrpSpPr>
        <p:grpSpPr>
          <a:xfrm>
            <a:off x="6095880" y="0"/>
            <a:ext cx="2895840" cy="6400800"/>
            <a:chOff x="6095880" y="0"/>
            <a:chExt cx="2895840" cy="6400800"/>
          </a:xfrm>
        </p:grpSpPr>
        <p:sp>
          <p:nvSpPr>
            <p:cNvPr id="107" name=""/>
            <p:cNvSpPr/>
            <p:nvPr/>
          </p:nvSpPr>
          <p:spPr>
            <a:xfrm>
              <a:off x="6095880" y="0"/>
              <a:ext cx="2895840" cy="64008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121080" y="533520"/>
              <a:ext cx="2741400" cy="4560480"/>
              <a:chOff x="6121080" y="533520"/>
              <a:chExt cx="2741400" cy="4560480"/>
            </a:xfrm>
          </p:grpSpPr>
          <p:sp>
            <p:nvSpPr>
              <p:cNvPr id="109" name=""/>
              <p:cNvSpPr/>
              <p:nvPr/>
            </p:nvSpPr>
            <p:spPr>
              <a:xfrm rot="16200000">
                <a:off x="7445880" y="3306240"/>
                <a:ext cx="83520" cy="8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6121080" y="2859840"/>
                <a:ext cx="1359000" cy="2234160"/>
                <a:chOff x="6121080" y="2859840"/>
                <a:chExt cx="1359000" cy="2234160"/>
              </a:xfrm>
            </p:grpSpPr>
            <p:sp>
              <p:nvSpPr>
                <p:cNvPr id="111" name=""/>
                <p:cNvSpPr/>
                <p:nvPr/>
              </p:nvSpPr>
              <p:spPr>
                <a:xfrm rot="16200000">
                  <a:off x="6708600" y="3850560"/>
                  <a:ext cx="207000" cy="2070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6777720" y="4057560"/>
                  <a:ext cx="0" cy="10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6846840" y="4057560"/>
                  <a:ext cx="0" cy="10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6858360" y="3320640"/>
                  <a:ext cx="621720" cy="55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flipV="1">
                  <a:off x="6121080" y="2986920"/>
                  <a:ext cx="621720" cy="89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6224400" y="2883240"/>
                  <a:ext cx="552600" cy="96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 flipV="1">
                  <a:off x="6143760" y="2859840"/>
                  <a:ext cx="621720" cy="10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480440" y="2859840"/>
                <a:ext cx="1382040" cy="2234160"/>
                <a:chOff x="7480440" y="2859840"/>
                <a:chExt cx="1382040" cy="2234160"/>
              </a:xfrm>
            </p:grpSpPr>
            <p:sp>
              <p:nvSpPr>
                <p:cNvPr id="119" name=""/>
                <p:cNvSpPr/>
                <p:nvPr/>
              </p:nvSpPr>
              <p:spPr>
                <a:xfrm flipV="1" rot="16200000">
                  <a:off x="8056080" y="3848400"/>
                  <a:ext cx="207000" cy="2106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8194680" y="4057560"/>
                  <a:ext cx="0" cy="10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8124480" y="4057560"/>
                  <a:ext cx="0" cy="10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7480440" y="3320640"/>
                  <a:ext cx="632520" cy="55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8229960" y="2986920"/>
                  <a:ext cx="632520" cy="89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V="1">
                  <a:off x="8195400" y="2883240"/>
                  <a:ext cx="561960" cy="967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8206920" y="2859840"/>
                  <a:ext cx="632520" cy="103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 flipV="1">
                <a:off x="7480440" y="1673640"/>
                <a:ext cx="0" cy="16581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>
                <a:off x="6639120" y="533520"/>
                <a:ext cx="829080" cy="11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480440" y="533520"/>
                <a:ext cx="921240" cy="110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7434000" y="1616040"/>
                <a:ext cx="83520" cy="83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0" name=""/>
            <p:cNvGraphicFramePr/>
            <p:nvPr/>
          </p:nvGraphicFramePr>
          <p:xfrm>
            <a:off x="6553080" y="5245200"/>
            <a:ext cx="2108160" cy="406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53080" y="5245200"/>
                      <a:ext cx="21081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7264440" y="5562720"/>
            <a:ext cx="685800" cy="431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264440" y="5562720"/>
                      <a:ext cx="685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0" y="64771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400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al Gravi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6400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rtual Gravi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4360" y="993600"/>
            <a:ext cx="7572240" cy="41641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313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derlying event in charged jet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58920" y="1413000"/>
            <a:ext cx="7561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9840" y="6453360"/>
            <a:ext cx="19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ysics at LHC - Pr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5084640"/>
            <a:ext cx="36716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gain, default PYTHIA does not give enough “activity” in “transverse region”. (Need to increase correlations in multiple interactions.)  Tuned-PYTHIA and PHOJET agree well with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700360" y="465264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909720"/>
            <a:ext cx="76975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How does particle density in “transverse region” vary with leading jet p</a:t>
            </a:r>
            <a:r>
              <a:rPr b="0" lang="en-GB" sz="1900" spc="-1" strike="noStrike" baseline="-10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81560" y="5157720"/>
            <a:ext cx="31449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YTH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redicts significant incre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event activity in the UE at the LH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ile tuned-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YTH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HOJE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oth agree well with CDF data, the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dictions at LHC energies differ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than a factor of 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642920" y="4723920"/>
            <a:ext cx="576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15636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5080" y="1844640"/>
            <a:ext cx="1763640" cy="252360"/>
          </a:xfrm>
          <a:prstGeom prst="rect">
            <a:avLst/>
          </a:prstGeom>
          <a:solidFill>
            <a:srgbClr val="cc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1787400"/>
            <a:ext cx="1150920" cy="346320"/>
          </a:xfrm>
          <a:prstGeom prst="rect">
            <a:avLst/>
          </a:prstGeom>
          <a:solidFill>
            <a:srgbClr val="cc00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533520" y="28638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 signals are unmistakably gravit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304920"/>
            <a:ext cx="86868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marks of KK graviton inter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niversality of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rowth with higher energy (non-unit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pin-2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issing energy (in ADD-type mod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attern of masses (in RS-type mod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4024440"/>
            <a:ext cx="883944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problems in checking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Similar signals arise from other new physics, e.g. un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ay not be able to kinematically access multiple reson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LHC experiments may not have necessary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in-2 would be the most clinching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059360" cy="3671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572000" y="1325520"/>
            <a:ext cx="4038480" cy="3546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7786440" cy="47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tudy of narrow RS graviton resonances at the LHC (ATLAS detec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1676160" y="3504960"/>
            <a:ext cx="1522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0840" y="0"/>
            <a:ext cx="8840880" cy="3603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207360" cy="434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28600" y="2514600"/>
            <a:ext cx="8686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5562360" cy="395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4190760" cy="4665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7924680" cy="5059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066680" y="1828800"/>
            <a:ext cx="64008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92468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09480" y="4006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to disentangle ADD and 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1905120" y="485640"/>
          <a:ext cx="5105160" cy="10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85640"/>
                    <a:ext cx="51051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715000" y="2286000"/>
          <a:ext cx="1371600" cy="12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286000"/>
                    <a:ext cx="13716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5581800" y="3589200"/>
          <a:ext cx="1504800" cy="60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1800" y="3589200"/>
                    <a:ext cx="15048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705720" y="304920"/>
          <a:ext cx="20574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304920"/>
                    <a:ext cx="2057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2860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viton width grows rapid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219320"/>
            <a:ext cx="8686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rge widths RS signal begins to look like ADD sig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both would have spin-2 character: angular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distributions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(cos </a:t>
            </a:r>
            <a:r>
              <a:rPr b="0" lang="el-GR" sz="2800" spc="-1" strike="noStrike">
                <a:solidFill>
                  <a:srgbClr val="0000cc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oth would give similar excess in all the SM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channels, for correct choice of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nvariant mass excess would be smeared-out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with broad overlapping resonances in RS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“quasi-continuum” in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446040"/>
            <a:ext cx="7543800" cy="625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90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28600" y="720720"/>
            <a:ext cx="8947080" cy="5256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2640" cy="387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1251000" cy="1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5280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429000" y="5486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ai &amp; S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095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ing to repeat similar study at LHC :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ixit &amp; 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981080" y="457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1219320"/>
            <a:ext cx="8001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HC will start running a few months from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f there are TeV-scale extra dimensions, we hope to se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m at 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e must be careful no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a) miss the XD effects by being too conserv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(b) misinterpret SM effects as X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f we have new physics, we need to pin it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me has come to make detailed analyses and addres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re difficult questions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90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609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parameters we can constra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7524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are the uncertainties in calc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8638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signals are unmistakably gravit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006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disentangle ADD and 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073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disentangle radion and Hig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609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are the parameters we can constra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380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 Gravitons (AD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7040" y="1386000"/>
          <a:ext cx="863460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386000"/>
                    <a:ext cx="863460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33520" y="3886200"/>
            <a:ext cx="830556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achine energy naturally cuts off KK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4-D Planck Mass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ancels out of the calculation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ounds from real graviton emission directly constrain the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-dimensional gravitational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coupling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391520" y="228600"/>
          <a:ext cx="1295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228600"/>
                    <a:ext cx="1295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477120" y="2743200"/>
          <a:ext cx="2417760" cy="120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743200"/>
                    <a:ext cx="241776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rtual Gravitons (AD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160" y="838080"/>
          <a:ext cx="9105840" cy="37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838080"/>
                    <a:ext cx="9105840" cy="37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80880" y="4940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ounds from virtual graviton emission constrain the so-called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string scale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789280" y="5462640"/>
          <a:ext cx="35416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9280" y="5462640"/>
                    <a:ext cx="3541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315200" y="297180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over propag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0582400">
            <a:off x="4410000" y="2003760"/>
            <a:ext cx="380952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380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S Parameter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219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p f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0" y="1055520"/>
          <a:ext cx="121932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55520"/>
                    <a:ext cx="12193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6094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urvature of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dius of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133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66680" y="2155680"/>
          <a:ext cx="2133720" cy="66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155680"/>
                    <a:ext cx="21337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170000" y="3003480"/>
          <a:ext cx="1573200" cy="118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0000" y="3003480"/>
                    <a:ext cx="15732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724280" y="2151000"/>
          <a:ext cx="2552760" cy="62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2151000"/>
                    <a:ext cx="25527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070600" y="2895480"/>
          <a:ext cx="3006720" cy="118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0600" y="2895480"/>
                    <a:ext cx="30067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80880" y="4572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ince each graviton behaves as a weakly-coupled particle with electroweak order mass, we can only constrain the            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642000" y="4952880"/>
          <a:ext cx="939960" cy="47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42000" y="4952880"/>
                    <a:ext cx="9399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80880" y="5638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or radions, we can only constrain the                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203800" y="5638680"/>
          <a:ext cx="1197000" cy="47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03800" y="5638680"/>
                    <a:ext cx="11970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743200" y="3962520"/>
          <a:ext cx="1523880" cy="44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43200" y="3962520"/>
                    <a:ext cx="15238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537240" y="3962520"/>
          <a:ext cx="1555920" cy="444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7240" y="3962520"/>
                    <a:ext cx="15559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600280" y="2666880"/>
          <a:ext cx="1809720" cy="444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00280" y="2666880"/>
                    <a:ext cx="1809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7257960" y="2451240"/>
          <a:ext cx="1809720" cy="444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57960" y="2451240"/>
                    <a:ext cx="18097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AQ</cp:lastModifiedBy>
  <dcterms:modified xsi:type="dcterms:W3CDTF">2008-02-22T09:01:35Z</dcterms:modified>
  <cp:revision>32</cp:revision>
  <dc:subject/>
  <dc:title>PowerPoint Presentation</dc:title>
</cp:coreProperties>
</file>